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B2CD-B44F-4079-A43C-6667C2E7286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AAE6-B2D8-4664-9DD9-A06C89A62C9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473C9-AD18-4577-B534-976892B05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8947C-7C43-498B-96B4-336F8917B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D813C-714F-4629-A60E-C7E9945F2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94F93-7C27-4540-A840-46B424396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433AE-16E7-409A-A51B-E440CA545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5D414-AD9A-4D80-9F6E-AA276E67A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F2E68-4EC9-46EA-A2C9-AEA6FFDF9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F05EA-AF6D-4282-A0C2-DFF86C5E9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13778-CC6E-4585-A789-09405A86D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48DFD-812C-4601-9C45-F0DB751F8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DE335-EC26-4182-8281-355B1B2F4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09589-D5F6-4C1B-9D2C-9F0A6B126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9CACB-91A9-4B07-8BC1-F4AA1D15A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BC012-8E29-43D0-A782-9130CD8B7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9DA10-40AA-4FA8-86B1-09C2006D7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52126-5FA2-482A-817B-F8F31AB90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2A8D0F-D36A-48C9-865E-F65DC9A388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9D91B8-2DE4-411C-A298-C9975BE580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5FBC86-35E8-4DF5-8142-F447BD5D78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E8ED47-0501-4A02-AD4B-B0E665EDEE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6E6541-FB8B-4FD3-9918-FBD4FA316C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E9929F-EA54-4274-8EC7-E62AC42974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17B76-684C-47FC-A07A-213456132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C99302-771E-46EA-9F45-CA12F64DF6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954121-7738-4689-A570-E2E684EED9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A0483-2DF8-4E15-A50C-66775B14C7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694E55-AFEF-440A-AE3A-FC5B223785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2482FA-457B-4FDA-946C-58D8849BCD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CAD9BF-514B-4C14-A56B-B359290876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6C7067-6E79-4FA6-ABE1-E82723E870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E562D3-5BD7-47CA-BD9B-7DC9D775A3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2CDB89-60FD-4044-813C-C7775CC0BF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E21A63-717B-42C3-BA72-54B811B0C4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6DD57-96CA-41D0-804A-07E3F7172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BCE263-82B6-4AC5-9136-7F585815A0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00AA9B-852A-4156-88E9-4C6574D952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3C3780-B8DB-4F02-B86F-7AC3A7E566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E004DF-E2C2-49D0-A231-F306716AF2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04B1F6-271C-4054-A6E6-FF132E3BCD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5E3D88-7ED2-4E8B-B815-41F582385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393A3A-B8F6-4C18-A311-5F51A8D1FD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465978-B801-4375-9395-FA2D7125FE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494C7B-E9D2-486B-A4DB-EB982838DF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C81636-2CF5-481B-85D3-3E289B3865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C760D-11EF-4113-A524-CBC9F7205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54FF28-EED5-4784-A235-4909B3D9F3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F7268A-EBA1-45D1-8511-A32F0E4CEE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0510B6-00D2-49B7-93F6-1D9388F7B6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B032CB-A11D-450B-8FB2-A923C352D0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2BD79C-240B-4CA4-8BDB-1BAA703359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0C7AD1-FFD5-4308-AFFB-80EC7CE0E0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2DF042-D644-4420-A6EA-BE5E3AED12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DF542A-6FC0-4F0A-9A75-A1EE8D1D1D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4F1BE8-0C5E-40E9-90C9-CAAD64506B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944DC5-8929-4634-87A9-713D8F9E88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76E97-0A45-4009-92D4-12640B3B8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098F68-96C9-4109-9B09-9B1CDB0866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A115C1-EA9B-4856-95D1-CADD0AFE6C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7BC4B7-5CE3-4325-A437-E80D73E237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C89AF2-2D68-4BA1-92E5-2E7859644D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8C368C-F665-42E8-AD00-E29400B127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61AE75-0B1C-4BBA-BED9-04B06FB647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209444-B9D0-4964-8775-C218B02A90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DF2E1A-DE9E-478B-B409-D856C0D544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2039E0-F980-4963-90A9-CC8D6F3444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EFEDC1-7A27-4728-86C0-17A8F6F8E7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A5247-0713-4036-A367-039DEA683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E12CC8-DC9B-43FA-92A8-B8948088D8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81CFC1-1DC5-41AB-A77F-6D705F7F7E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AA4F2B-9C9A-40E0-8714-E5D517EE81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EE55CD-75D2-4B08-AE99-C049574E3E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E0C5B0-C425-4469-89EB-B13131524B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2F1549-EE1B-49D3-8D25-2492DC1050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8C2F6F-A8FD-4B67-9A7A-744BADD4DD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1321A7-EDBD-4CFC-B048-0F7E90240A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F98138-5859-46E5-9E59-45A1C9A026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EE26BA-B18F-434F-8927-8487DA735E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F4122-EE50-40F5-A50F-7A9AAB50F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7DB2F0-9472-4A35-8AD5-1C7B81F676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80241D-4B63-49E5-947C-34E3738751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08254C-BB40-494C-AC6A-D054338A8A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4A8837-BC7D-48F4-BAD5-F2E25D0E17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408720-4290-4444-9397-D6C91ACCEA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B20E9-3FCA-48FA-881F-CE1AA3309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2AA5-3F01-4216-9E3A-500A420A079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C2F7-0291-42B7-B6C9-B5272B128F67}" type="slidenum">
              <a:rPr b="0" lang="es-ES" sz="1300" spc="-1" strike="noStrike">
                <a:solidFill>
                  <a:srgbClr val="ffffff"/>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ADB9-7A79-4D53-8155-619ABA9EC48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C619-8C7D-45B5-86E6-B41F118DDB9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3B76-C479-4EE2-AA6C-1D8512CD882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6ACC-7B74-4F0F-A57D-98EE373F87DB}" type="slidenum">
              <a:rPr b="0" lang="es-E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A5D9-5FCA-49C2-8AAD-F15A296B0CD2}" type="slidenum">
              <a:rPr b="0" lang="es-ES" sz="900" spc="-1" strike="noStrike">
                <a:solidFill>
                  <a:srgbClr val="fffff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youtube.com/watch?v=zHDrLxd9tK0" TargetMode="External"/><Relationship Id="rId3" Type="http://schemas.openxmlformats.org/officeDocument/2006/relationships/hyperlink" Target="http://www.youtube.com/watch?v=sA4cQoz3hOs" TargetMode="External"/><Relationship Id="rId4" Type="http://schemas.openxmlformats.org/officeDocument/2006/relationships/slideLayout" Target="../slideLayouts/slideLayout3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5" descr="campesinos1"/>
          <p:cNvPicPr/>
          <p:nvPr/>
        </p:nvPicPr>
        <p:blipFill>
          <a:blip r:embed="rId1"/>
          <a:stretch/>
        </p:blipFill>
        <p:spPr>
          <a:xfrm>
            <a:off x="539640" y="907920"/>
            <a:ext cx="4469040" cy="2997360"/>
          </a:xfrm>
          <a:prstGeom prst="rect">
            <a:avLst/>
          </a:prstGeom>
          <a:ln w="0">
            <a:noFill/>
          </a:ln>
        </p:spPr>
      </p:pic>
      <p:pic>
        <p:nvPicPr>
          <p:cNvPr id="309" name="Picture 7" descr="ANd9GcTBCs0FbKmlDZD2SGq4ZmAQUXnadcj3AKydgp3JV7dm_72bV-ST"/>
          <p:cNvPicPr/>
          <p:nvPr/>
        </p:nvPicPr>
        <p:blipFill>
          <a:blip r:embed="rId2"/>
          <a:stretch/>
        </p:blipFill>
        <p:spPr>
          <a:xfrm>
            <a:off x="539640" y="4437000"/>
            <a:ext cx="4392720" cy="2149560"/>
          </a:xfrm>
          <a:prstGeom prst="rect">
            <a:avLst/>
          </a:prstGeom>
          <a:ln w="0">
            <a:noFill/>
          </a:ln>
        </p:spPr>
      </p:pic>
      <p:pic>
        <p:nvPicPr>
          <p:cNvPr id="310" name="Picture 9" descr="edad_media_campesino"/>
          <p:cNvPicPr/>
          <p:nvPr/>
        </p:nvPicPr>
        <p:blipFill>
          <a:blip r:embed="rId3"/>
          <a:stretch/>
        </p:blipFill>
        <p:spPr>
          <a:xfrm>
            <a:off x="5564160" y="1566720"/>
            <a:ext cx="3133800" cy="5021280"/>
          </a:xfrm>
          <a:prstGeom prst="rect">
            <a:avLst/>
          </a:prstGeom>
          <a:ln w="0">
            <a:noFill/>
          </a:ln>
        </p:spPr>
      </p:pic>
      <p:sp>
        <p:nvSpPr>
          <p:cNvPr id="311" name="1 CuadroTexto"/>
          <p:cNvSpPr/>
          <p:nvPr/>
        </p:nvSpPr>
        <p:spPr>
          <a:xfrm>
            <a:off x="684360" y="1197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1</a:t>
            </a:r>
            <a:endParaRPr b="0" lang="en-US" sz="1800" spc="-1" strike="noStrike">
              <a:solidFill>
                <a:srgbClr val="ffffff"/>
              </a:solidFill>
              <a:latin typeface="Arial"/>
            </a:endParaRPr>
          </a:p>
        </p:txBody>
      </p:sp>
      <p:sp>
        <p:nvSpPr>
          <p:cNvPr id="312" name="2 CuadroTexto"/>
          <p:cNvSpPr/>
          <p:nvPr/>
        </p:nvSpPr>
        <p:spPr>
          <a:xfrm>
            <a:off x="5727600" y="177336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a:t>
            </a:r>
            <a:endParaRPr b="0" lang="en-US" sz="1800" spc="-1" strike="noStrike">
              <a:solidFill>
                <a:srgbClr val="ffffff"/>
              </a:solidFill>
              <a:latin typeface="Arial"/>
            </a:endParaRPr>
          </a:p>
        </p:txBody>
      </p:sp>
      <p:sp>
        <p:nvSpPr>
          <p:cNvPr id="313" name="6 CuadroTexto"/>
          <p:cNvSpPr/>
          <p:nvPr/>
        </p:nvSpPr>
        <p:spPr>
          <a:xfrm>
            <a:off x="1332000" y="46530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3 Título" descr=""/>
          <p:cNvPicPr/>
          <p:nvPr/>
        </p:nvPicPr>
        <p:blipFill>
          <a:blip r:embed="rId1"/>
          <a:stretch/>
        </p:blipFill>
        <p:spPr>
          <a:xfrm>
            <a:off x="384120" y="274680"/>
            <a:ext cx="42840" cy="1066680"/>
          </a:xfrm>
          <a:prstGeom prst="rect">
            <a:avLst/>
          </a:prstGeom>
          <a:ln w="0">
            <a:noFill/>
          </a:ln>
        </p:spPr>
      </p:pic>
      <p:sp>
        <p:nvSpPr>
          <p:cNvPr id="315" name="PlaceHolder 1"/>
          <p:cNvSpPr>
            <a:spLocks noGrp="1"/>
          </p:cNvSpPr>
          <p:nvPr>
            <p:ph/>
          </p:nvPr>
        </p:nvSpPr>
        <p:spPr>
          <a:xfrm>
            <a:off x="179280" y="0"/>
            <a:ext cx="8640720" cy="6858000"/>
          </a:xfrm>
          <a:prstGeom prst="rect">
            <a:avLst/>
          </a:prstGeom>
          <a:noFill/>
          <a:ln w="0">
            <a:noFill/>
          </a:ln>
        </p:spPr>
        <p:txBody>
          <a:bodyPr anchor="t">
            <a:normAutofit/>
          </a:bodyPr>
          <a:p>
            <a:pPr marL="54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54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1. Se puede apreciar una hoguera, con una familia rodeándola. También se ve al ganado. Creemos que es una cabaña, porque esta echa madera, también se ve que el techo esta echo de paja. Creemos que el ganado esta dentro de la casa porque calientan. Esta una familia entera seguramente porque en esa época no tenían mucho dinero.</a:t>
            </a:r>
            <a:endParaRPr b="0" lang="en-US" sz="2600" spc="-1" strike="noStrike">
              <a:solidFill>
                <a:srgbClr val="ffffff"/>
              </a:solidFill>
              <a:latin typeface="Century Gothic"/>
            </a:endParaRPr>
          </a:p>
          <a:p>
            <a:pPr marL="54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2. Se puede apreciar en la segunda imagen que hay un arado muy primitivo, el arado es una forma de cultivar las semillas más fácilmente del arado tira dos caballos pero normalmente suele tirar un par de mulas</a:t>
            </a:r>
            <a:r>
              <a:rPr b="0" lang="es-ES" sz="2800" spc="-1" strike="noStrike">
                <a:solidFill>
                  <a:srgbClr val="ffffff"/>
                </a:solidFill>
                <a:latin typeface="Century Gothic"/>
              </a:rPr>
              <a:t>. </a:t>
            </a:r>
            <a:endParaRPr b="0" lang="en-US" sz="2800" spc="-1" strike="noStrike">
              <a:solidFill>
                <a:srgbClr val="ffffff"/>
              </a:solidFill>
              <a:latin typeface="Century Gothic"/>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1 Título" descr=""/>
          <p:cNvPicPr/>
          <p:nvPr/>
        </p:nvPicPr>
        <p:blipFill>
          <a:blip r:embed="rId1"/>
          <a:stretch/>
        </p:blipFill>
        <p:spPr>
          <a:xfrm>
            <a:off x="384120" y="274680"/>
            <a:ext cx="42840" cy="127080"/>
          </a:xfrm>
          <a:prstGeom prst="rect">
            <a:avLst/>
          </a:prstGeom>
          <a:ln w="0">
            <a:noFill/>
          </a:ln>
        </p:spPr>
      </p:pic>
      <p:sp>
        <p:nvSpPr>
          <p:cNvPr id="317" name="PlaceHolder 1"/>
          <p:cNvSpPr>
            <a:spLocks noGrp="1"/>
          </p:cNvSpPr>
          <p:nvPr>
            <p:ph/>
          </p:nvPr>
        </p:nvSpPr>
        <p:spPr>
          <a:xfrm>
            <a:off x="468000" y="404280"/>
            <a:ext cx="8064360" cy="5977080"/>
          </a:xfrm>
          <a:prstGeom prst="rect">
            <a:avLst/>
          </a:prstGeom>
          <a:noFill/>
          <a:ln w="0">
            <a:noFill/>
          </a:ln>
        </p:spPr>
        <p:txBody>
          <a:bodyPr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3. En la imagen se puede apreciar un campesino de la baja edad media con una herramienta para el arado. Se ve que vive de forma pobre por sus ropas harapientas.</a:t>
            </a:r>
            <a:endParaRPr b="0" lang="en-US" sz="2800" spc="-1" strike="noStrike">
              <a:solidFill>
                <a:srgbClr val="ffffff"/>
              </a:solidFill>
              <a:latin typeface="Century Gothic"/>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Puede ser de dos tipos de campesinos : Villanos (Campesinos libres que no tienen dueño y si tienen pocos derechos) y esclavos(No tienen derechos y tienen un dueño)</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1 Título" descr=""/>
          <p:cNvPicPr/>
          <p:nvPr/>
        </p:nvPicPr>
        <p:blipFill>
          <a:blip r:embed="rId1"/>
          <a:stretch/>
        </p:blipFill>
        <p:spPr>
          <a:xfrm>
            <a:off x="171360" y="274680"/>
            <a:ext cx="7448760" cy="1359000"/>
          </a:xfrm>
          <a:prstGeom prst="rect">
            <a:avLst/>
          </a:prstGeom>
          <a:ln w="0">
            <a:noFill/>
          </a:ln>
        </p:spPr>
      </p:pic>
      <p:sp>
        <p:nvSpPr>
          <p:cNvPr id="319" name="PlaceHolder 1"/>
          <p:cNvSpPr>
            <a:spLocks noGrp="1"/>
          </p:cNvSpPr>
          <p:nvPr>
            <p:ph/>
          </p:nvPr>
        </p:nvSpPr>
        <p:spPr>
          <a:xfrm>
            <a:off x="380520" y="1633680"/>
            <a:ext cx="8512200" cy="2286000"/>
          </a:xfrm>
          <a:prstGeom prst="rect">
            <a:avLst/>
          </a:prstGeom>
          <a:noFill/>
          <a:ln w="0">
            <a:noFill/>
          </a:ln>
        </p:spPr>
        <p:txBody>
          <a:bodyPr anchor="t">
            <a:normAutofit/>
          </a:bodyPr>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17bbfd"/>
                </a:solidFill>
                <a:uFillTx/>
                <a:latin typeface="Century Gothic"/>
                <a:hlinkClick r:id="rId2"/>
              </a:rPr>
              <a:t>Invento del Arado.</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17bbfd"/>
                </a:solidFill>
                <a:uFillTx/>
                <a:latin typeface="Century Gothic"/>
                <a:hlinkClick r:id="rId3"/>
              </a:rPr>
              <a:t>Baja Edad Media</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1 Título" descr=""/>
          <p:cNvPicPr/>
          <p:nvPr/>
        </p:nvPicPr>
        <p:blipFill>
          <a:blip r:embed="rId1"/>
          <a:stretch/>
        </p:blipFill>
        <p:spPr>
          <a:xfrm>
            <a:off x="2494080" y="262080"/>
            <a:ext cx="3376440" cy="1358640"/>
          </a:xfrm>
          <a:prstGeom prst="rect">
            <a:avLst/>
          </a:prstGeom>
          <a:ln w="0">
            <a:noFill/>
          </a:ln>
        </p:spPr>
      </p:pic>
      <p:sp>
        <p:nvSpPr>
          <p:cNvPr id="321" name="PlaceHolder 1"/>
          <p:cNvSpPr>
            <a:spLocks noGrp="1"/>
          </p:cNvSpPr>
          <p:nvPr>
            <p:ph/>
          </p:nvPr>
        </p:nvSpPr>
        <p:spPr>
          <a:xfrm>
            <a:off x="380880" y="1633680"/>
            <a:ext cx="8439120" cy="4819680"/>
          </a:xfrm>
          <a:prstGeom prst="rect">
            <a:avLst/>
          </a:prstGeom>
          <a:noFill/>
          <a:ln w="0">
            <a:noFill/>
          </a:ln>
        </p:spPr>
        <p:txBody>
          <a:bodyPr anchor="t">
            <a:normAutofit/>
          </a:bodyPr>
          <a:p>
            <a:pPr marL="54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Harlow Solid Italic"/>
              </a:rPr>
              <a:t>Markel Odriozola.</a:t>
            </a:r>
            <a:endParaRPr b="0" lang="en-US" sz="4800" spc="-1" strike="noStrike">
              <a:solidFill>
                <a:srgbClr val="ffffff"/>
              </a:solidFill>
              <a:latin typeface="Century Gothic"/>
            </a:endParaRPr>
          </a:p>
          <a:p>
            <a:pPr marL="54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Harlow Solid Italic"/>
              </a:rPr>
              <a:t>Miguel Ángel M. Gutiérrez.</a:t>
            </a:r>
            <a:endParaRPr b="0" lang="en-US" sz="4800" spc="-1" strike="noStrike">
              <a:solidFill>
                <a:srgbClr val="ffffff"/>
              </a:solidFill>
              <a:latin typeface="Century Gothic"/>
            </a:endParaRPr>
          </a:p>
          <a:p>
            <a:pPr marL="54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Harlow Solid Italic"/>
              </a:rPr>
              <a:t>Darío S. Zabala.</a:t>
            </a:r>
            <a:endParaRPr b="0" lang="en-US" sz="4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5T08:35:44Z</dcterms:created>
  <dc:creator>IR015252AG</dc:creator>
  <dc:description/>
  <dc:language>en-US</dc:language>
  <cp:lastModifiedBy>Artaza Romo Ikaslea</cp:lastModifiedBy>
  <dcterms:modified xsi:type="dcterms:W3CDTF">2014-02-14T13:10:33Z</dcterms:modified>
  <cp:revision>11</cp:revision>
  <dc:subject/>
  <dc:title>Diapositiva 1</dc:title>
</cp:coreProperties>
</file>